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7.gif" ContentType="image/gi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B2-4C16-455B-AA73-3192A870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494-70C1-494F-ADA5-576FFCBF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FF6-0256-4C6C-B34D-A5BA987C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C5F-8F39-45D3-978A-F3973F04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6EB8-8CCB-403A-9E9C-437A1315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7224-E23E-4142-89B2-A2FE12DA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A327-7B2F-4B03-879F-04E6D33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618-A90D-40AF-BDE0-45A4DC8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8966-2AEE-4281-9E5A-E3AD1FA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1D9-05A5-4B2A-96EB-CA5E54D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FBE0-7957-489D-B95A-873334DD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ECC-6053-46F2-AB33-38FAA6DE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B282-B504-439A-8F0C-03700A14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4EC-F54D-4E70-AF10-9495B26E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50E0-C73E-49B9-9E36-BD9CAFB9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CF0-6891-4D0D-BE95-C323D7B5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5F56-C737-4FEF-A37C-F43F39FD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CC5-2990-4104-8E1E-253C552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85A-9052-431B-ABF4-318566DD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5E9-4DC8-4F3A-A402-ECF0E2C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179-D7CC-4C74-9347-AE149BD5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CCE-41D1-4BAB-B7A5-72736AA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D2B-FFCA-48C3-A390-70478D2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8F3-8136-4F8B-906E-6916CCA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7FB2-7881-4124-B873-CA9924D00A70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E08-D913-4796-AD16-07E457A5F5FB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pposite of bi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ShockwaveFlash1"/>
          <p:cNvGraphicFramePr/>
          <p:nvPr/>
        </p:nvGraphicFramePr>
        <p:xfrm>
          <a:off x="1676520" y="1371600"/>
          <a:ext cx="5867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867280" cy="4724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aphicFrame>
        <p:nvGraphicFramePr>
          <p:cNvPr id="156" name="ShockwaveFlash1"/>
          <p:cNvGraphicFramePr/>
          <p:nvPr/>
        </p:nvGraphicFramePr>
        <p:xfrm>
          <a:off x="1676520" y="1447920"/>
          <a:ext cx="5867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867280" cy="4572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nimal, plant, and fungus species are composed of many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ll is the smallest living unit of an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352680" cy="333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3963960"/>
            <a:ext cx="3098880" cy="28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917880" cy="3917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re made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000 000 000 000  cells.  (5 trillion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icro-organisms are composed of only on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is, they are extremely sma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-organisms can’t be seen with the naked 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a microscope is needed to view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4210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4054320"/>
            <a:ext cx="3504960" cy="260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 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-organisms are every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germs, bacteria, mold spores, plankton, viruses, and other uni-cellular 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4119480"/>
            <a:ext cx="4190760" cy="273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62520" cy="384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76244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16320" cy="2934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57760" cy="291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00600" y="3352680"/>
            <a:ext cx="34956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3981600" cy="298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038480" cy="34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810240" cy="27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Micro-organism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aphicFrame>
        <p:nvGraphicFramePr>
          <p:cNvPr id="150" name="ShockwaveFlash1"/>
          <p:cNvGraphicFramePr/>
          <p:nvPr/>
        </p:nvGraphicFramePr>
        <p:xfrm>
          <a:off x="1905120" y="1447920"/>
          <a:ext cx="579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5790960" cy="44956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8:17:01Z</dcterms:created>
  <dc:creator>Teacher</dc:creator>
  <dc:description/>
  <cp:keywords/>
  <dc:language>en-US</dc:language>
  <cp:lastModifiedBy>nbdoe</cp:lastModifiedBy>
  <dcterms:modified xsi:type="dcterms:W3CDTF">2007-10-17T10:36:35Z</dcterms:modified>
  <cp:revision>13</cp:revision>
  <dc:subject/>
  <dc:title>Micro-organis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91033</vt:lpwstr>
  </property>
</Properties>
</file>